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6A2-2B1F-4F1B-9E96-1D99C30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870-2D7A-423D-A6CF-374247AA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F5AD-B328-46FF-A164-8E40F10C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3592-82F4-46A3-8C62-21236909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B750-8ACE-4888-9376-32AED9EF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B07D0-A888-423B-B38F-D7D005A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735A-734E-400A-8EDB-E784D2B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036DB-C191-4F0A-967B-E4AB797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F56D-1F14-4B24-8596-81B0C1B2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40844-5DF9-44B0-8836-4EDE7E5B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87C03-14F8-45E8-AAA6-6FD149F4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DF1-DDA8-4C2F-B48B-51DF2259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6F6-229C-4881-B711-5AED7B9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9EA7-07C7-47F3-86E6-7E7C2F2E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BF4-42E5-44B3-8A65-69D3E8C5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4390-F45D-4A29-94D4-356A4EE2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0717-52C4-4492-9EAA-F3B9267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9A77-8F8B-4AA2-9637-C404A772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D2F2-3F6E-415F-8011-4648CC1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9F10-B30C-4287-88A1-D67CFF1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257-9E2C-4CA2-99AD-CF73772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F7C7-3AFB-46F8-A04F-1C4FB03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DD1-A51F-461D-B0C8-73602B0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FBC5-68A3-46ED-93DD-A43A005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4783-70FF-448B-B5FD-1E1FB5BB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475C-044B-46FD-B596-674A954A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974B-C846-4320-9D55-FB420A53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1525-314A-4404-8998-F12C05DA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57F4-24FF-4A34-932E-D23D369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7FA3-5D9B-4685-9700-9D1802B2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C154-0B47-44D4-89C9-FA3EFC6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D99-ADD5-43C0-B822-18560FC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7BCC-8480-4FA0-A2C2-A6B328E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3E18-9081-45A4-B7E8-0346A7E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DB4C-0E12-4DE6-AEA1-F4FE78F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4F80-0EF9-43B2-8B2B-A1B6A4F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2F0A-F38C-480F-AAD9-AF2A01E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BA50-C9F4-4670-8939-E08D2D73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FA01-3D0A-4E58-A7FB-3601732E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1BA7-09B0-4D82-A2C6-70D860C4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82B2-4BDA-4798-BB4A-F1032D96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A515-8B1A-4559-8C0C-01F0FB4D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FDA-90EA-4DD8-AC07-2EB36FDF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8DEF-0604-4A14-83A9-5E33A4D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6064-8086-4737-8A80-29C9F4D7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0095-5C45-45F2-8AC5-158BBA3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B275-B150-4B09-84B2-29895D9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65FE-FD12-4190-B093-756B894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733B-6A8E-4CD2-8367-536C49C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7776-7A11-410D-909A-61FDBFF8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4684-95EF-4113-949A-D549546D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EB40-1CC4-4D55-A4AA-FE79457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C7ED-F8E1-4FEF-8753-31EF7A8E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39B-C128-4808-9521-357508D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EC2F-B6D6-4BC8-8346-911752D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31DC-3F1E-4C96-95FC-1F29293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82E8-671D-4562-869A-965649F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B203-F396-4847-874C-2E04C711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B0A1-BD60-4361-BACB-FDA4D9D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4D68-E9B2-423D-B0E4-87330FE5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F3BB-6ADD-4738-8B83-AB1EA2F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3AB5-2461-4213-9B79-26E2889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D86F-73D4-4309-AC96-344ACAC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FEFD-EF3A-4FDC-B4A5-26BB9D90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666-F28E-44D3-955B-31218DC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2D8E-CE48-4A28-803A-39F20C86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5A72A-C506-4BD7-B085-28D44792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1B18-5EFB-4A9D-A9F7-53F10969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227E-5788-4FEA-9014-7B496A9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6D77-19C1-4F00-9A98-E9B5406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8ED6-0D60-4C64-80DF-4E872D15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18D3-7D6B-431D-A1F0-509DB81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9F65-2EDF-478A-9591-203A2BB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DE84-6A42-46ED-86B2-709C5ABF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9BAC-2CDA-4B8A-B635-3D4F981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8A3-2221-4A98-BC2E-3C522B9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D672-4549-4C4D-8BB6-BC7DAD94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952E4-3C27-4F0B-9AC0-CD7BA88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5B51-3661-4D3A-A810-88455352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8D0A-7BE2-43ED-8C93-DC13F7B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31F9-1653-465F-9B92-8E0FDD4D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99B2-5586-48E4-B2F9-CE0962AE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36EE-E0F9-41D3-AA67-11AFCB9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81D8-01FF-46BF-B140-5DE76BD2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C292-5179-49A5-A2F1-3129B7D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BAF7-10F5-48FA-B3A8-B1DE5D1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8B2-6B67-4C07-BBAA-4F10D30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43C80-692A-4A9C-9859-7AD409C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161A-0FF4-4F86-AE01-B994E4A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425C9-9880-4E76-A7E0-816D34B0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036D-B1FF-40BC-845D-BAEDEA70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7D8D-4538-4F07-B55D-5784C1EA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DCC5C-6F98-40FE-AEEE-FB40503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8035-F69D-4678-AD3F-B4CB00C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79E5-31F8-43B4-B981-A3635FF4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D5A35-8E67-4FCD-8AFE-D8726F9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CDB3-394F-44C5-AA7C-747F2B0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A56-A465-40FA-B603-75EC588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F4CD6-2B05-4F04-96EA-E1F9D80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2660-B118-4AB0-8505-26E80F0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6E138-1490-4BB6-A478-ECDAF43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D837-6CDD-40DD-ABDA-429BCCC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BE2A-30E9-4030-8DFD-430F5AB0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CF2C7-D83A-4CE1-A53D-1C41DB7D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5759-B53C-4FA4-8EA4-E1A31086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74378-0191-4B2D-9A65-BF46A350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AF76E-221C-41ED-86CB-FDC3D0E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6380E-BDD9-44F7-ABAC-CF19A48A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B16-D076-4C75-AD99-0D6F8D01204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D1B-F7D2-42FC-8E43-E84835377C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D78-771D-4D1F-89C9-13560F48209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FCC-E5C5-43F2-BD19-AA54C280301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151-8C45-41AB-AF82-726373801A2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7328-B6D1-4660-A9D8-8BDBCCD4D8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E717-6CDD-48FA-8A6B-8C7DC4BAEC0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8F3F-0D3D-4CE1-8FB8-5C4CE0505CE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785-025D-448F-90B3-7FFD62623B0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http://mann.spps.org/sites/4f16e46d-c440-4367-aca0-ca3ecf7f74fc/uploads/Classrooms_2.jpg"/>
          <p:cNvPicPr/>
          <p:nvPr/>
        </p:nvPicPr>
        <p:blipFill>
          <a:blip r:embed="rId1"/>
          <a:stretch/>
        </p:blipFill>
        <p:spPr>
          <a:xfrm>
            <a:off x="3651120" y="835200"/>
            <a:ext cx="5321520" cy="42670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03320" y="4784760"/>
            <a:ext cx="8669160" cy="1324080"/>
          </a:xfrm>
          <a:prstGeom prst="rect">
            <a:avLst/>
          </a:prstGeom>
          <a:ln w="0">
            <a:noFill/>
          </a:ln>
        </p:spPr>
      </p:pic>
      <p:pic>
        <p:nvPicPr>
          <p:cNvPr id="401" name="Subtitle 2" descr=""/>
          <p:cNvPicPr/>
          <p:nvPr/>
        </p:nvPicPr>
        <p:blipFill>
          <a:blip r:embed="rId3"/>
          <a:stretch/>
        </p:blipFill>
        <p:spPr>
          <a:xfrm>
            <a:off x="5346720" y="3700440"/>
            <a:ext cx="2955960" cy="2724120"/>
          </a:xfrm>
          <a:prstGeom prst="rect">
            <a:avLst/>
          </a:prstGeom>
          <a:ln w="0">
            <a:noFill/>
          </a:ln>
        </p:spPr>
      </p:pic>
      <p:sp>
        <p:nvSpPr>
          <p:cNvPr id="402" name="Subtitle 2"/>
          <p:cNvSpPr/>
          <p:nvPr/>
        </p:nvSpPr>
        <p:spPr>
          <a:xfrm>
            <a:off x="304920" y="4114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Are you prepar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ubtitle 2"/>
          <p:cNvSpPr/>
          <p:nvPr/>
        </p:nvSpPr>
        <p:spPr>
          <a:xfrm>
            <a:off x="3200400" y="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Department of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Eastern Washingt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ubtitle 2"/>
          <p:cNvSpPr/>
          <p:nvPr/>
        </p:nvSpPr>
        <p:spPr>
          <a:xfrm>
            <a:off x="32767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18 Febr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ubtitle 2"/>
          <p:cNvSpPr/>
          <p:nvPr/>
        </p:nvSpPr>
        <p:spPr>
          <a:xfrm>
            <a:off x="0" y="1295280"/>
            <a:ext cx="4495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EDUC 4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Introduction to Reading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and </a:t>
            </a:r>
            <a:r>
              <a:rPr b="0" i="1" lang="en-US" sz="1600" spc="-1" strike="noStrike" u="sng">
                <a:solidFill>
                  <a:srgbClr val="443329"/>
                </a:solidFill>
                <a:uFillTx/>
                <a:latin typeface="Franklin Gothic Book"/>
              </a:rPr>
              <a:t>Acceler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Informative Group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s. Nickie Va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rs. Laura Landee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r. Ryan Lav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22:49:18Z</dcterms:created>
  <dc:creator>Ruth</dc:creator>
  <dc:description/>
  <dc:language>en-US</dc:language>
  <cp:lastModifiedBy>Mr. Ryan Lavine</cp:lastModifiedBy>
  <dcterms:modified xsi:type="dcterms:W3CDTF">2009-01-28T22:42:53Z</dcterms:modified>
  <cp:revision>9</cp:revision>
  <dc:subject/>
  <dc:title>English Language Learners</dc:title>
</cp:coreProperties>
</file>